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09600" y="685440"/>
            <a:ext cx="44388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fld id="{EAEEADDC-86C7-4124-A515-B43C6038B0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209600" y="685800"/>
            <a:ext cx="44388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fld id="{88868294-D639-4183-A653-DF247616DE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209600" y="685800"/>
            <a:ext cx="44388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fld id="{6F4166AF-71AA-4DAD-AAF6-70BF7CFFBB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209600" y="685800"/>
            <a:ext cx="44388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fld id="{6EC970D0-B8FB-4CF7-AC25-91575700E3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209600" y="685800"/>
            <a:ext cx="44388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fld id="{AFE29495-B7C2-4697-8CE9-2A99FD5D2B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209600" y="685800"/>
            <a:ext cx="44388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fld id="{F8B2C553-465B-4793-8579-2449BE152E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209600" y="685800"/>
            <a:ext cx="44388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fld id="{0F5BB6FA-5A66-4AE5-9C9D-F24B7C1235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209600" y="685800"/>
            <a:ext cx="44388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fld id="{B0B8D4F7-6110-42C1-A8B6-0313D0C903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209600" y="685800"/>
            <a:ext cx="44388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fld id="{DA3123B4-51CD-4009-8E49-815991DCF5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209600" y="685800"/>
            <a:ext cx="44388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fld id="{6C57B629-0863-4B29-BD03-56B2B384E0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209600" y="685800"/>
            <a:ext cx="44388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fld id="{06B5FE5D-300C-46BA-9A6E-F0BF8FE107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209600" y="685800"/>
            <a:ext cx="44388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fld id="{DE0CA6D7-CDC6-4E59-9593-10BA8D9CCF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209600" y="685800"/>
            <a:ext cx="44388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fld id="{83FFFC01-F559-482F-A551-8A31F2243D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379E-8B26-4DA2-BEFD-FB099840C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905184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493160"/>
            <a:ext cx="905184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C45D-D991-410D-8F80-2D0EEFE79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1880" y="18129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4931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1880" y="44931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4C14-9FD3-4C97-93BF-B550C19B6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29145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4000" y="1812960"/>
            <a:ext cx="29145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4720" y="1812960"/>
            <a:ext cx="29145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493160"/>
            <a:ext cx="29145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4000" y="4493160"/>
            <a:ext cx="29145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4720" y="4493160"/>
            <a:ext cx="29145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FE8E-17C1-4BB9-A4A4-1ADFA55A6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812960"/>
            <a:ext cx="9051840" cy="51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AA86-6307-4E0B-99B1-BC3452C47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9051840" cy="513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DCDC-9074-4144-AAF1-0C59F0592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4417200" cy="513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1880" y="1812960"/>
            <a:ext cx="4417200" cy="513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068A-EE42-4623-8DF3-CA361547A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AF01-ED7D-4FFB-8988-DF6A88082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10680"/>
            <a:ext cx="90518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F8D7-9CDA-47C7-9AE3-C950169DB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880" y="1812960"/>
            <a:ext cx="4417200" cy="513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4931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C29B-02AE-4151-B0D1-EDBCB1CC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4417200" cy="513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880" y="18129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1880" y="44931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4F87-9C6F-403B-871D-725B9045D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1880" y="18129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493160"/>
            <a:ext cx="905184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6B70-BF55-4735-82BE-C15EBC95E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812960"/>
            <a:ext cx="9051840" cy="513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0880" indent="-380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7203600"/>
            <a:ext cx="2346120" cy="414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lstStyle>
            <a:lvl1pPr indent="0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  <a:defRPr b="0" lang="en-US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203600"/>
            <a:ext cx="3184560" cy="414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8640" y="7203600"/>
            <a:ext cx="2346120" cy="414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lstStyle>
            <a:lvl1pPr indent="0" algn="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  <a:defRPr b="0" lang="en-US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fld id="{3A46D0B5-1DC9-4947-B036-D706E2B26D26}" type="slidenum">
              <a:rPr b="0" lang="en-US" sz="13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ea.org/profdev/cert/index.cf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228600" y="228600"/>
            <a:ext cx="9601200" cy="7162920"/>
          </a:xfrm>
          <a:prstGeom prst="rect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6" descr="CEAlogo2007.JPG"/>
          <p:cNvPicPr/>
          <p:nvPr/>
        </p:nvPicPr>
        <p:blipFill>
          <a:blip r:embed="rId1"/>
          <a:stretch/>
        </p:blipFill>
        <p:spPr>
          <a:xfrm>
            <a:off x="457200" y="6477120"/>
            <a:ext cx="719280" cy="691920"/>
          </a:xfrm>
          <a:prstGeom prst="rect">
            <a:avLst/>
          </a:prstGeom>
          <a:ln w="0">
            <a:noFill/>
          </a:ln>
        </p:spPr>
      </p:pic>
      <p:sp>
        <p:nvSpPr>
          <p:cNvPr id="50" name="TextBox 7"/>
          <p:cNvSpPr/>
          <p:nvPr/>
        </p:nvSpPr>
        <p:spPr>
          <a:xfrm>
            <a:off x="2085120" y="1828800"/>
            <a:ext cx="6010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alibri"/>
              </a:rPr>
              <a:t>Proposed certification chang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alibri"/>
              </a:rPr>
              <a:t>Information every local lead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alibri"/>
              </a:rPr>
              <a:t>should kn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8"/>
          <p:cNvSpPr/>
          <p:nvPr/>
        </p:nvSpPr>
        <p:spPr>
          <a:xfrm>
            <a:off x="7091280" y="5943600"/>
            <a:ext cx="2509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alibri"/>
              </a:rPr>
              <a:t>CE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alibri"/>
              </a:rPr>
              <a:t>Policy &amp; Prof. Pract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alibri"/>
              </a:rPr>
              <a:t>All Presidents Meet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alibri"/>
              </a:rPr>
              <a:t>March 8, 20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228600" y="228600"/>
            <a:ext cx="9601200" cy="7162920"/>
          </a:xfrm>
          <a:prstGeom prst="rect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CEAlogo2007.JPG"/>
          <p:cNvPicPr/>
          <p:nvPr/>
        </p:nvPicPr>
        <p:blipFill>
          <a:blip r:embed="rId1"/>
          <a:stretch/>
        </p:blipFill>
        <p:spPr>
          <a:xfrm>
            <a:off x="457200" y="6477120"/>
            <a:ext cx="719280" cy="691920"/>
          </a:xfrm>
          <a:prstGeom prst="rect">
            <a:avLst/>
          </a:prstGeom>
          <a:ln w="0">
            <a:noFill/>
          </a:ln>
        </p:spPr>
      </p:pic>
      <p:sp>
        <p:nvSpPr>
          <p:cNvPr id="93" name="TextBox 3"/>
          <p:cNvSpPr/>
          <p:nvPr/>
        </p:nvSpPr>
        <p:spPr>
          <a:xfrm>
            <a:off x="685800" y="1295280"/>
            <a:ext cx="8763120" cy="53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80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l teachers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currently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working as literacy coaches, coordinators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ead teachers, etc. would have to have certificate – </a:t>
            </a:r>
            <a:r>
              <a:rPr b="1" lang="en-US" sz="2200" spc="-1" strike="noStrike" u="sng">
                <a:solidFill>
                  <a:srgbClr val="7030a0"/>
                </a:solidFill>
                <a:uFillTx/>
                <a:latin typeface="Calibri"/>
              </a:rPr>
              <a:t>no grandfather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buClr>
                <a:srgbClr val="0080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80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achers who now provide early intervention services to stud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utside regular classroom would have to hold certific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buClr>
                <a:srgbClr val="0080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80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st to earn initial certificate increases – more credit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80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80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st to earn professional certificate – 12 additional credi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80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80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ider range of responsibilities under one certificate – current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nder two certificat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buClr>
                <a:srgbClr val="0080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80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eparation program too broad for 30 credits – results i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nderprepared teach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80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80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2836440" y="380880"/>
            <a:ext cx="431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Impact on teachers and stud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traight Connector 8"/>
          <p:cNvSpPr/>
          <p:nvPr/>
        </p:nvSpPr>
        <p:spPr>
          <a:xfrm>
            <a:off x="3124080" y="914400"/>
            <a:ext cx="3733920" cy="0"/>
          </a:xfrm>
          <a:prstGeom prst="line">
            <a:avLst/>
          </a:prstGeom>
          <a:ln w="28440">
            <a:solidFill>
              <a:srgbClr val="008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"/>
          <p:cNvSpPr/>
          <p:nvPr/>
        </p:nvSpPr>
        <p:spPr>
          <a:xfrm>
            <a:off x="228600" y="228600"/>
            <a:ext cx="9601200" cy="7162920"/>
          </a:xfrm>
          <a:prstGeom prst="rect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CEAlogo2007.JPG"/>
          <p:cNvPicPr/>
          <p:nvPr/>
        </p:nvPicPr>
        <p:blipFill>
          <a:blip r:embed="rId1"/>
          <a:stretch/>
        </p:blipFill>
        <p:spPr>
          <a:xfrm>
            <a:off x="457200" y="6477120"/>
            <a:ext cx="719280" cy="691920"/>
          </a:xfrm>
          <a:prstGeom prst="rect">
            <a:avLst/>
          </a:prstGeom>
          <a:ln w="0">
            <a:noFill/>
          </a:ln>
        </p:spPr>
      </p:pic>
      <p:sp>
        <p:nvSpPr>
          <p:cNvPr id="98" name="TextBox 3"/>
          <p:cNvSpPr/>
          <p:nvPr/>
        </p:nvSpPr>
        <p:spPr>
          <a:xfrm>
            <a:off x="1918440" y="53352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CEA  proposals for Literacy Specialist cert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traight Connector 4"/>
          <p:cNvSpPr/>
          <p:nvPr/>
        </p:nvSpPr>
        <p:spPr>
          <a:xfrm>
            <a:off x="3124080" y="1066680"/>
            <a:ext cx="3733920" cy="0"/>
          </a:xfrm>
          <a:prstGeom prst="line">
            <a:avLst/>
          </a:prstGeom>
          <a:ln w="28440">
            <a:solidFill>
              <a:srgbClr val="008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5"/>
          <p:cNvSpPr/>
          <p:nvPr/>
        </p:nvSpPr>
        <p:spPr>
          <a:xfrm>
            <a:off x="838080" y="1371600"/>
            <a:ext cx="8610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80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 levels of literacy certif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buClr>
                <a:srgbClr val="7030a0"/>
              </a:buClr>
              <a:buFont typeface="Wingdings" charset="2"/>
              <a:buChar char="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teracy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400" spc="-1" strike="noStrike">
                <a:solidFill>
                  <a:srgbClr val="008000"/>
                </a:solidFill>
                <a:latin typeface="Calibri"/>
              </a:rPr>
              <a:t>teacher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cus on working with students and thei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17720">
              <a:lnSpc>
                <a:spcPct val="100000"/>
              </a:lnSpc>
              <a:tabLst>
                <a:tab algn="l" pos="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achers (one-on-one or small group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17720">
              <a:lnSpc>
                <a:spcPct val="100000"/>
              </a:lnSpc>
              <a:tabLst>
                <a:tab algn="l" pos="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buClr>
                <a:srgbClr val="7030a0"/>
              </a:buClr>
              <a:buFont typeface="Wingdings" charset="2"/>
              <a:buChar char="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teracy </a:t>
            </a:r>
            <a:r>
              <a:rPr b="0" i="1" lang="en-US" sz="2400" spc="-1" strike="noStrike">
                <a:solidFill>
                  <a:srgbClr val="008000"/>
                </a:solidFill>
                <a:latin typeface="Calibri"/>
              </a:rPr>
              <a:t>s</a:t>
            </a:r>
            <a:r>
              <a:rPr b="1" i="1" lang="en-US" sz="2400" spc="-1" strike="noStrike">
                <a:solidFill>
                  <a:srgbClr val="008000"/>
                </a:solidFill>
                <a:latin typeface="Calibri"/>
              </a:rPr>
              <a:t>pecialist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cus on training paras, tutors, coaches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17720">
              <a:lnSpc>
                <a:spcPct val="100000"/>
              </a:lnSpc>
              <a:tabLst>
                <a:tab algn="l" pos="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tc.; program development &amp; coordination; full diagnosis &amp; intervention/remediation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buClr>
                <a:srgbClr val="000000"/>
              </a:buClr>
              <a:buFont typeface="Wingdings 2" charset="2"/>
              <a:buChar char="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80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st have experience as literacy teacher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peciali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cc0000"/>
              </a:buClr>
              <a:buFont typeface="Wingdings 2" charset="2"/>
              <a:buChar char="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80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parate preparation &amp; responsibilities allows greater depth o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nowledge &amp; skill…..more effective services to stud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"/>
          <p:cNvSpPr/>
          <p:nvPr/>
        </p:nvSpPr>
        <p:spPr>
          <a:xfrm>
            <a:off x="228600" y="228600"/>
            <a:ext cx="9601200" cy="7162920"/>
          </a:xfrm>
          <a:prstGeom prst="rect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CEAlogo2007.JPG"/>
          <p:cNvPicPr/>
          <p:nvPr/>
        </p:nvPicPr>
        <p:blipFill>
          <a:blip r:embed="rId1"/>
          <a:stretch/>
        </p:blipFill>
        <p:spPr>
          <a:xfrm>
            <a:off x="457200" y="6477120"/>
            <a:ext cx="719280" cy="691920"/>
          </a:xfrm>
          <a:prstGeom prst="rect">
            <a:avLst/>
          </a:prstGeom>
          <a:ln w="0">
            <a:noFill/>
          </a:ln>
        </p:spPr>
      </p:pic>
      <p:sp>
        <p:nvSpPr>
          <p:cNvPr id="103" name="TextBox 3"/>
          <p:cNvSpPr/>
          <p:nvPr/>
        </p:nvSpPr>
        <p:spPr>
          <a:xfrm>
            <a:off x="1545840" y="380880"/>
            <a:ext cx="70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Get involved in CEA campaign to change certification!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traight Connector 4"/>
          <p:cNvSpPr/>
          <p:nvPr/>
        </p:nvSpPr>
        <p:spPr>
          <a:xfrm>
            <a:off x="3048120" y="914400"/>
            <a:ext cx="3733560" cy="0"/>
          </a:xfrm>
          <a:prstGeom prst="line">
            <a:avLst/>
          </a:prstGeom>
          <a:ln w="28440">
            <a:solidFill>
              <a:srgbClr val="008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685800" y="1143000"/>
            <a:ext cx="87631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80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ad more details about certification proposals on CEA web site – encour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mbers to do same : 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cea.org/profdev/cert/index.cfm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27120">
              <a:lnSpc>
                <a:spcPct val="100000"/>
              </a:lnSpc>
              <a:tabLst>
                <a:tab algn="l" pos="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80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rticipate in public hearings on certification regulation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buClr>
                <a:srgbClr val="7030a0"/>
              </a:buClr>
              <a:buFont typeface="Wingdings" charset="2"/>
              <a:buChar char="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nday, April 5 – CREC (Hartfor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buClr>
                <a:srgbClr val="7030a0"/>
              </a:buClr>
              <a:buFont typeface="Wingdings" charset="2"/>
              <a:buChar char="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esday, April 6 – CES (Trumbul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buClr>
                <a:srgbClr val="7030a0"/>
              </a:buClr>
              <a:buFont typeface="Wingdings" charset="2"/>
              <a:buChar char="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nday, April 12 – EASTCONN (Willimanti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buClr>
                <a:srgbClr val="7030a0"/>
              </a:buClr>
              <a:buFont typeface="Wingdings" charset="2"/>
              <a:buChar char="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ursday, April 29 – ACES (Hamde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buClr>
                <a:srgbClr val="7030a0"/>
              </a:buClr>
              <a:buFont typeface="Wingdings" charset="2"/>
              <a:buChar char="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80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ork with Uni Serv rep to organize teachers …… attend hearings; use CE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ources to write testimony for CEA to send to State Board &amp; S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80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et CEA know what needs clarifica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5"/>
          <p:cNvSpPr/>
          <p:nvPr/>
        </p:nvSpPr>
        <p:spPr>
          <a:xfrm>
            <a:off x="228600" y="228600"/>
            <a:ext cx="9601200" cy="7162920"/>
          </a:xfrm>
          <a:prstGeom prst="rect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6" descr="CEAlogo2007.JPG"/>
          <p:cNvPicPr/>
          <p:nvPr/>
        </p:nvPicPr>
        <p:blipFill>
          <a:blip r:embed="rId1"/>
          <a:stretch/>
        </p:blipFill>
        <p:spPr>
          <a:xfrm>
            <a:off x="457200" y="6477120"/>
            <a:ext cx="719280" cy="691920"/>
          </a:xfrm>
          <a:prstGeom prst="rect">
            <a:avLst/>
          </a:prstGeom>
          <a:ln w="0">
            <a:noFill/>
          </a:ln>
        </p:spPr>
      </p:pic>
      <p:sp>
        <p:nvSpPr>
          <p:cNvPr id="54" name="TextBox 9"/>
          <p:cNvSpPr/>
          <p:nvPr/>
        </p:nvSpPr>
        <p:spPr>
          <a:xfrm>
            <a:off x="1179720" y="762120"/>
            <a:ext cx="772740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DE proposing major certification changes in 3 ar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80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Special educatio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– major change in requirements f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itial certific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80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80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Teacher leader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– new certificate SDE would requi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80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80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Literacy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– combines current reading teacher &amp; read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ultant certifica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~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changes would become effective July 1, 2014  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traight Connector 13"/>
          <p:cNvSpPr/>
          <p:nvPr/>
        </p:nvSpPr>
        <p:spPr>
          <a:xfrm>
            <a:off x="3124080" y="1371600"/>
            <a:ext cx="3733920" cy="0"/>
          </a:xfrm>
          <a:prstGeom prst="line">
            <a:avLst/>
          </a:prstGeom>
          <a:ln w="28440">
            <a:solidFill>
              <a:srgbClr val="008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"/>
          <p:cNvSpPr/>
          <p:nvPr/>
        </p:nvSpPr>
        <p:spPr>
          <a:xfrm>
            <a:off x="228600" y="228600"/>
            <a:ext cx="9601200" cy="7162920"/>
          </a:xfrm>
          <a:prstGeom prst="rect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CEAlogo2007.JPG"/>
          <p:cNvPicPr/>
          <p:nvPr/>
        </p:nvPicPr>
        <p:blipFill>
          <a:blip r:embed="rId1"/>
          <a:stretch/>
        </p:blipFill>
        <p:spPr>
          <a:xfrm>
            <a:off x="457200" y="6477120"/>
            <a:ext cx="719280" cy="691920"/>
          </a:xfrm>
          <a:prstGeom prst="rect">
            <a:avLst/>
          </a:prstGeom>
          <a:ln w="0">
            <a:noFill/>
          </a:ln>
        </p:spPr>
      </p:pic>
      <p:sp>
        <p:nvSpPr>
          <p:cNvPr id="58" name="TextBox 3"/>
          <p:cNvSpPr/>
          <p:nvPr/>
        </p:nvSpPr>
        <p:spPr>
          <a:xfrm>
            <a:off x="565560" y="533520"/>
            <a:ext cx="91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Proposed special education teacher &amp; intervention specialist cert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926280" y="1523880"/>
            <a:ext cx="8437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80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iminates initial certification through bachelor’s level 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80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80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quires master’s degree for initial certif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80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80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quires prior certificate or passing Praxis II in any content are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80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80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quires minimum 75 hours of CEUs in areas specified by S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advance to professional certificate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8000"/>
              </a:buClr>
              <a:buFont typeface="Wingdings" charset="2"/>
              <a:buChar char="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Calibri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eaching certificate that would have these requiremen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traight Connector 7"/>
          <p:cNvSpPr/>
          <p:nvPr/>
        </p:nvSpPr>
        <p:spPr>
          <a:xfrm>
            <a:off x="3124080" y="1066680"/>
            <a:ext cx="3733920" cy="0"/>
          </a:xfrm>
          <a:prstGeom prst="line">
            <a:avLst/>
          </a:prstGeom>
          <a:ln w="28440">
            <a:solidFill>
              <a:srgbClr val="008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1"/>
          <p:cNvSpPr/>
          <p:nvPr/>
        </p:nvSpPr>
        <p:spPr>
          <a:xfrm>
            <a:off x="228600" y="228600"/>
            <a:ext cx="9601200" cy="7162920"/>
          </a:xfrm>
          <a:prstGeom prst="rect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CEAlogo2007.JPG"/>
          <p:cNvPicPr/>
          <p:nvPr/>
        </p:nvPicPr>
        <p:blipFill>
          <a:blip r:embed="rId1"/>
          <a:stretch/>
        </p:blipFill>
        <p:spPr>
          <a:xfrm>
            <a:off x="457200" y="6477120"/>
            <a:ext cx="719280" cy="691920"/>
          </a:xfrm>
          <a:prstGeom prst="rect">
            <a:avLst/>
          </a:prstGeom>
          <a:ln w="0">
            <a:noFill/>
          </a:ln>
        </p:spPr>
      </p:pic>
      <p:sp>
        <p:nvSpPr>
          <p:cNvPr id="63" name="TextBox 3"/>
          <p:cNvSpPr/>
          <p:nvPr/>
        </p:nvSpPr>
        <p:spPr>
          <a:xfrm>
            <a:off x="2907360" y="457200"/>
            <a:ext cx="405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Impact on teachers &amp; stud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4"/>
          <p:cNvSpPr/>
          <p:nvPr/>
        </p:nvSpPr>
        <p:spPr>
          <a:xfrm>
            <a:off x="685800" y="1295280"/>
            <a:ext cx="8763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66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clear i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pecial educators would be grandfathe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3366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st for teachers to meet requirements for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niti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ert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es by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ousands of doll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buClr>
                <a:srgbClr val="3366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3366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tricts would be forced to hire at master’s level – financial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rd for many districts, so would limit number of special educators hi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3366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3366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oad range of responsibilities allowed under one certificate to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y for any teacher to handle, &amp; still service students we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buClr>
                <a:srgbClr val="3366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traight Connector 5"/>
          <p:cNvSpPr/>
          <p:nvPr/>
        </p:nvSpPr>
        <p:spPr>
          <a:xfrm>
            <a:off x="3048120" y="990720"/>
            <a:ext cx="3733560" cy="0"/>
          </a:xfrm>
          <a:prstGeom prst="line">
            <a:avLst/>
          </a:prstGeom>
          <a:ln w="28440">
            <a:solidFill>
              <a:srgbClr val="008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1"/>
          <p:cNvSpPr/>
          <p:nvPr/>
        </p:nvSpPr>
        <p:spPr>
          <a:xfrm>
            <a:off x="228600" y="228600"/>
            <a:ext cx="9601200" cy="7162920"/>
          </a:xfrm>
          <a:prstGeom prst="rect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CEAlogo2007.JPG"/>
          <p:cNvPicPr/>
          <p:nvPr/>
        </p:nvPicPr>
        <p:blipFill>
          <a:blip r:embed="rId1"/>
          <a:stretch/>
        </p:blipFill>
        <p:spPr>
          <a:xfrm>
            <a:off x="457200" y="6477120"/>
            <a:ext cx="719280" cy="691920"/>
          </a:xfrm>
          <a:prstGeom prst="rect">
            <a:avLst/>
          </a:prstGeom>
          <a:ln w="0">
            <a:noFill/>
          </a:ln>
        </p:spPr>
      </p:pic>
      <p:sp>
        <p:nvSpPr>
          <p:cNvPr id="68" name="TextBox 3"/>
          <p:cNvSpPr/>
          <p:nvPr/>
        </p:nvSpPr>
        <p:spPr>
          <a:xfrm>
            <a:off x="685800" y="1295280"/>
            <a:ext cx="87631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66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stricts might focus assignment of special educators to deal most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ith tasks other than direct service to students; e.g., training paras, diagnostics, facilitating PPTs, et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3366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3366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ill take longer to prepare special educators - initially may cre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reater shortage of special ed teacher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buClr>
                <a:srgbClr val="3366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3366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eparation program too broad for 30 credits – results in underprepa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ach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3366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3366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pecial educators from out of state not certifiable unless they hav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ster’s in special ed – further decreases number of special educators in C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3366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3366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ing master’s for initial certificate eliminates teacher’s ability t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arn master’s degree (for professional certificate) in area of choi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4"/>
          <p:cNvSpPr/>
          <p:nvPr/>
        </p:nvSpPr>
        <p:spPr>
          <a:xfrm>
            <a:off x="2983680" y="457200"/>
            <a:ext cx="405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Impact on teachers &amp; stud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traight Connector 5"/>
          <p:cNvSpPr/>
          <p:nvPr/>
        </p:nvSpPr>
        <p:spPr>
          <a:xfrm>
            <a:off x="3124080" y="990720"/>
            <a:ext cx="3733920" cy="0"/>
          </a:xfrm>
          <a:prstGeom prst="line">
            <a:avLst/>
          </a:prstGeom>
          <a:ln w="28440">
            <a:solidFill>
              <a:srgbClr val="008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"/>
          <p:cNvSpPr/>
          <p:nvPr/>
        </p:nvSpPr>
        <p:spPr>
          <a:xfrm>
            <a:off x="228600" y="228600"/>
            <a:ext cx="9601200" cy="7162920"/>
          </a:xfrm>
          <a:prstGeom prst="rect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CEAlogo2007.JPG"/>
          <p:cNvPicPr/>
          <p:nvPr/>
        </p:nvPicPr>
        <p:blipFill>
          <a:blip r:embed="rId1"/>
          <a:stretch/>
        </p:blipFill>
        <p:spPr>
          <a:xfrm>
            <a:off x="457200" y="6477120"/>
            <a:ext cx="719280" cy="691920"/>
          </a:xfrm>
          <a:prstGeom prst="rect">
            <a:avLst/>
          </a:prstGeom>
          <a:ln w="0">
            <a:noFill/>
          </a:ln>
        </p:spPr>
      </p:pic>
      <p:sp>
        <p:nvSpPr>
          <p:cNvPr id="73" name="TextBox 3"/>
          <p:cNvSpPr/>
          <p:nvPr/>
        </p:nvSpPr>
        <p:spPr>
          <a:xfrm>
            <a:off x="1954800" y="533520"/>
            <a:ext cx="611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CEA  proposals for Special Education cert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4"/>
          <p:cNvSpPr/>
          <p:nvPr/>
        </p:nvSpPr>
        <p:spPr>
          <a:xfrm>
            <a:off x="762120" y="1447920"/>
            <a:ext cx="86104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Based on focus groups, survey, &amp; work with special educators, CEA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proposed the following regarding special education certification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80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80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2 levels of special education certific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80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buClr>
                <a:srgbClr val="7030a0"/>
              </a:buClr>
              <a:buFont typeface="Wingdings" charset="2"/>
              <a:buChar char="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cc6600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7030a0"/>
                </a:solidFill>
                <a:latin typeface="Calibri"/>
              </a:rPr>
              <a:t>Teaching</a:t>
            </a:r>
            <a:r>
              <a:rPr b="0" lang="en-US" sz="2200" spc="-1" strike="noStrike">
                <a:solidFill>
                  <a:srgbClr val="cc6600"/>
                </a:solidFill>
                <a:latin typeface="Calibri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- level 1; preparation to work with students wit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17720">
              <a:lnSpc>
                <a:spcPct val="100000"/>
              </a:lnSpc>
              <a:tabLst>
                <a:tab algn="l" pos="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ld to moderate disabil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17720">
              <a:lnSpc>
                <a:spcPct val="100000"/>
              </a:lnSpc>
              <a:tabLst>
                <a:tab algn="l" pos="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buClr>
                <a:srgbClr val="7030a0"/>
              </a:buClr>
              <a:buFont typeface="Wingdings" charset="2"/>
              <a:buChar char="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200" spc="-1" strike="noStrike">
                <a:solidFill>
                  <a:srgbClr val="7030a0"/>
                </a:solidFill>
                <a:latin typeface="Calibri"/>
              </a:rPr>
              <a:t>Specialist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– level 2; preparation to work with students wit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17720">
              <a:lnSpc>
                <a:spcPct val="100000"/>
              </a:lnSpc>
              <a:tabLst>
                <a:tab algn="l" pos="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re disabilities, and for other responsibil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buClr>
                <a:srgbClr val="0080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80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ust hold teaching certificate before advancing to specialist certific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traight Connector 5"/>
          <p:cNvSpPr/>
          <p:nvPr/>
        </p:nvSpPr>
        <p:spPr>
          <a:xfrm>
            <a:off x="3124080" y="1066680"/>
            <a:ext cx="3733920" cy="0"/>
          </a:xfrm>
          <a:prstGeom prst="line">
            <a:avLst/>
          </a:prstGeom>
          <a:ln w="28440">
            <a:solidFill>
              <a:srgbClr val="008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"/>
          <p:cNvSpPr/>
          <p:nvPr/>
        </p:nvSpPr>
        <p:spPr>
          <a:xfrm>
            <a:off x="228600" y="228600"/>
            <a:ext cx="9601200" cy="7162920"/>
          </a:xfrm>
          <a:prstGeom prst="rect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CEAlogo2007.JPG"/>
          <p:cNvPicPr/>
          <p:nvPr/>
        </p:nvPicPr>
        <p:blipFill>
          <a:blip r:embed="rId1"/>
          <a:stretch/>
        </p:blipFill>
        <p:spPr>
          <a:xfrm>
            <a:off x="457200" y="6477120"/>
            <a:ext cx="719280" cy="691920"/>
          </a:xfrm>
          <a:prstGeom prst="rect">
            <a:avLst/>
          </a:prstGeom>
          <a:ln w="0">
            <a:noFill/>
          </a:ln>
        </p:spPr>
      </p:pic>
      <p:sp>
        <p:nvSpPr>
          <p:cNvPr id="78" name="TextBox 3"/>
          <p:cNvSpPr/>
          <p:nvPr/>
        </p:nvSpPr>
        <p:spPr>
          <a:xfrm>
            <a:off x="2684520" y="380880"/>
            <a:ext cx="463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Proposed teacher leader cert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traight Connector 4"/>
          <p:cNvSpPr/>
          <p:nvPr/>
        </p:nvSpPr>
        <p:spPr>
          <a:xfrm>
            <a:off x="3124080" y="914400"/>
            <a:ext cx="3733920" cy="0"/>
          </a:xfrm>
          <a:prstGeom prst="line">
            <a:avLst/>
          </a:prstGeom>
          <a:ln w="28440">
            <a:solidFill>
              <a:srgbClr val="008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5"/>
          <p:cNvSpPr/>
          <p:nvPr/>
        </p:nvSpPr>
        <p:spPr>
          <a:xfrm>
            <a:off x="938880" y="1143000"/>
            <a:ext cx="8103960" cy="52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buClr>
                <a:srgbClr val="0080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quired for teacher working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more tha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40% of time i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sition such 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buClr>
                <a:srgbClr val="7030a0"/>
              </a:buClr>
              <a:buFont typeface="Wingdings" charset="2"/>
              <a:buChar char="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acher lea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buClr>
                <a:srgbClr val="7030a0"/>
              </a:buClr>
              <a:buFont typeface="Wingdings" charset="2"/>
              <a:buChar char="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am lea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buClr>
                <a:srgbClr val="7030a0"/>
              </a:buClr>
              <a:buFont typeface="Wingdings" charset="2"/>
              <a:buChar char="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ent coa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buClr>
                <a:srgbClr val="7030a0"/>
              </a:buClr>
              <a:buFont typeface="Wingdings" charset="2"/>
              <a:buChar char="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rriculum speciali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buClr>
                <a:srgbClr val="7030a0"/>
              </a:buClr>
              <a:buFont typeface="Wingdings" charset="2"/>
              <a:buChar char="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ny other similar 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buClr>
                <a:srgbClr val="7030a0"/>
              </a:buClr>
              <a:buFont typeface="Wingdings" charset="2"/>
              <a:buChar char="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80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quires master’s degree and 12 graduate credits &amp; fiel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eriences in specific are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80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DE pushing certificate based on erroneous assertion th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e are national standards for TLs, and ETS has develop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formance-based assessment for T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"/>
          <p:cNvSpPr/>
          <p:nvPr/>
        </p:nvSpPr>
        <p:spPr>
          <a:xfrm>
            <a:off x="228600" y="228600"/>
            <a:ext cx="9601200" cy="7162920"/>
          </a:xfrm>
          <a:prstGeom prst="rect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CEAlogo2007.JPG"/>
          <p:cNvPicPr/>
          <p:nvPr/>
        </p:nvPicPr>
        <p:blipFill>
          <a:blip r:embed="rId1"/>
          <a:stretch/>
        </p:blipFill>
        <p:spPr>
          <a:xfrm>
            <a:off x="457200" y="6477120"/>
            <a:ext cx="719280" cy="691920"/>
          </a:xfrm>
          <a:prstGeom prst="rect">
            <a:avLst/>
          </a:prstGeom>
          <a:ln w="0">
            <a:noFill/>
          </a:ln>
        </p:spPr>
      </p:pic>
      <p:sp>
        <p:nvSpPr>
          <p:cNvPr id="83" name="TextBox 3"/>
          <p:cNvSpPr/>
          <p:nvPr/>
        </p:nvSpPr>
        <p:spPr>
          <a:xfrm>
            <a:off x="2983680" y="457200"/>
            <a:ext cx="405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Impact on teachers &amp; stud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traight Connector 4"/>
          <p:cNvSpPr/>
          <p:nvPr/>
        </p:nvSpPr>
        <p:spPr>
          <a:xfrm>
            <a:off x="3124080" y="990720"/>
            <a:ext cx="3733920" cy="0"/>
          </a:xfrm>
          <a:prstGeom prst="line">
            <a:avLst/>
          </a:prstGeom>
          <a:ln w="28440">
            <a:solidFill>
              <a:srgbClr val="008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838080" y="1219320"/>
            <a:ext cx="8778960" cy="52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buClr>
                <a:srgbClr val="0080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achers currently working in such positions 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would no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 grandfathered – would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hav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earn cert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buClr>
                <a:srgbClr val="0080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80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st to teachers for additional course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buClr>
                <a:srgbClr val="0080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80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trict training provided to teacher leaders only ‘counts’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ward certification if district designs, and has approved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80-hour 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buClr>
                <a:srgbClr val="0080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80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scribed coursework might not match needs for position 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r distri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80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80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rtification changes expected to be in place for 15+ ye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"/>
          <p:cNvSpPr/>
          <p:nvPr/>
        </p:nvSpPr>
        <p:spPr>
          <a:xfrm>
            <a:off x="228600" y="228600"/>
            <a:ext cx="9601200" cy="7162920"/>
          </a:xfrm>
          <a:prstGeom prst="rect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CEAlogo2007.JPG"/>
          <p:cNvPicPr/>
          <p:nvPr/>
        </p:nvPicPr>
        <p:blipFill>
          <a:blip r:embed="rId1"/>
          <a:stretch/>
        </p:blipFill>
        <p:spPr>
          <a:xfrm>
            <a:off x="457200" y="6477120"/>
            <a:ext cx="719280" cy="691920"/>
          </a:xfrm>
          <a:prstGeom prst="rect">
            <a:avLst/>
          </a:prstGeom>
          <a:ln w="0">
            <a:noFill/>
          </a:ln>
        </p:spPr>
      </p:pic>
      <p:sp>
        <p:nvSpPr>
          <p:cNvPr id="88" name="TextBox 3"/>
          <p:cNvSpPr/>
          <p:nvPr/>
        </p:nvSpPr>
        <p:spPr>
          <a:xfrm>
            <a:off x="2527920" y="380880"/>
            <a:ext cx="49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Proposed literacy specialist cert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traight Connector 4"/>
          <p:cNvSpPr/>
          <p:nvPr/>
        </p:nvSpPr>
        <p:spPr>
          <a:xfrm>
            <a:off x="3124080" y="914400"/>
            <a:ext cx="3733920" cy="0"/>
          </a:xfrm>
          <a:prstGeom prst="line">
            <a:avLst/>
          </a:prstGeom>
          <a:ln w="28440">
            <a:solidFill>
              <a:srgbClr val="008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5"/>
          <p:cNvSpPr/>
          <p:nvPr/>
        </p:nvSpPr>
        <p:spPr>
          <a:xfrm>
            <a:off x="759240" y="1295280"/>
            <a:ext cx="9057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80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bines 2 current remedial reading &amp; reading consultan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o 1 certificate – “administrators don’t understand differ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tween them, &amp; use educators interchangeably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80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</a:t>
            </a:r>
            <a:r>
              <a:rPr b="1" lang="en-US" sz="2400" spc="-1" strike="noStrike">
                <a:solidFill>
                  <a:srgbClr val="008000"/>
                </a:solidFill>
                <a:latin typeface="Calibri"/>
              </a:rPr>
              <a:t>initi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ertificate - requires master’s degree/30 graduate credits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udy in curriculum development, children’s literature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olescent literatur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8000"/>
              </a:buClr>
              <a:buFont typeface="Wingdings" charset="2"/>
              <a:buChar char="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</a:t>
            </a:r>
            <a:r>
              <a:rPr b="1" lang="en-US" sz="2400" spc="-1" strike="noStrike">
                <a:solidFill>
                  <a:srgbClr val="008000"/>
                </a:solidFill>
                <a:latin typeface="Calibri"/>
              </a:rPr>
              <a:t>professional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rtificate – requires 12 credit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beyo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hose f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itial cert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07960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2T16:43:21Z</dcterms:created>
  <dc:creator>Lenovo User</dc:creator>
  <dc:description/>
  <dc:language>en-US</dc:language>
  <cp:lastModifiedBy>jcook</cp:lastModifiedBy>
  <dcterms:modified xsi:type="dcterms:W3CDTF">2010-03-11T22:08:05Z</dcterms:modified>
  <cp:revision>43</cp:revision>
  <dc:subject/>
  <dc:title>Slide 1</dc:title>
</cp:coreProperties>
</file>